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Click to move the slid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DC4A-DCCF-431F-986B-B37FC15D5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lates are stored in the wiki - don’t need shell access to edit, loa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o two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3EF-A538-4FDA-8BE3-7632AA78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D440-DCFB-489B-8089-930B1A02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E09-694F-4A97-8B1B-A11F8211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838-8CD8-434E-BBF3-B002B9CD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2B9F-E80C-4430-A749-1040CB3A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4F8C-3925-4831-8E31-6EA461AE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0A2-C26C-4107-AE1F-5A3554CB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4F9-99EC-4906-B17A-82A733A9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DB9-708B-4955-A5F8-B2B54A22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738-7E1D-4EDB-98FD-985286EE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B44-5826-4A03-A207-E2F2B077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1FC-5E74-4DC4-B431-C793C88C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376E-88A5-414B-A184-80ABC9D0D1D1}" type="slidenum">
              <a:rPr b="0" lang="en-US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ableEdit and Wikibot Mediawiki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im Hu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ein/Ware Retre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y 14, 2007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emplate exampl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24280" y="14479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'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413240" cy="4603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4413240" cy="460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H="1">
            <a:off x="1945080" y="1600200"/>
            <a:ext cx="55584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522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5220"/>
              </a:path>
            </a:pathLst>
          </a:custGeom>
          <a:noFill/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828800"/>
            <a:ext cx="121896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emplate exampl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24280" y="14479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'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413240" cy="4603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>
            <a:off x="2347200" y="1981080"/>
            <a:ext cx="49050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522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5220"/>
              </a:path>
            </a:pathLst>
          </a:custGeom>
          <a:noFill/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438280"/>
            <a:ext cx="167616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up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585324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alone g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0008150_!_biological_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emplates with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ewTableEdit&gt;Template:templatename&lt;/newTableEdit&gt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emplate content can be simple or comple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Advanced: tagged text: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43828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type&gt;0&lt;/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style&gt;bgcolor=‘#6666FF’&lt;/sty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heading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’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/heading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Hooks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ediaWiki Hooks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ash of arrays hookname=&gt;array=&gt;Extension function nam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tensions register their functions by adding to the appropriate hash for the hook they want to use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n define hooks inside extensions using same mechanis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fRunHooks( 'TableEditBeforeSave', array( &amp;$this, &amp;$table ) 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#pass by referenc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$wgHooks['TableEditBeforeSave'][] = 'wfTableEditLinks'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unction wfTableEditLinks( $article, $table 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…code to do stuff to $table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bleEditLinks.php extension adds links based on regex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8360" y="4983120"/>
            <a:ext cx="8793360" cy="1036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2120" y="63244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eshadowing: This became a design issue when I wrote the b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739800" y="944640"/>
            <a:ext cx="7612200" cy="4797360"/>
            <a:chOff x="739800" y="944640"/>
            <a:chExt cx="7612200" cy="4797360"/>
          </a:xfrm>
        </p:grpSpPr>
        <p:sp>
          <p:nvSpPr>
            <p:cNvPr id="139" name=""/>
            <p:cNvSpPr/>
            <p:nvPr/>
          </p:nvSpPr>
          <p:spPr>
            <a:xfrm>
              <a:off x="2027880" y="944640"/>
              <a:ext cx="156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unity u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05400" y="9446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r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800" y="3303720"/>
              <a:ext cx="182880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6880" y="3303720"/>
              <a:ext cx="73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ki p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5320" y="352584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67080" y="1789200"/>
              <a:ext cx="1524240" cy="333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al:TableEd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64280" y="3417840"/>
              <a:ext cx="990720" cy="7621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33840" y="2509920"/>
              <a:ext cx="990720" cy="57780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02080" y="3541680"/>
              <a:ext cx="1246320" cy="507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B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66960" y="3568680"/>
              <a:ext cx="979560" cy="46692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awik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>
              <a:stCxn id="148" idx="1"/>
              <a:endCxn id="143" idx="3"/>
            </p:cNvCxnSpPr>
            <p:nvPr/>
          </p:nvCxnSpPr>
          <p:spPr>
            <a:xfrm rot="10800000">
              <a:off x="2037600" y="3799800"/>
              <a:ext cx="729360" cy="2160"/>
            </a:xfrm>
            <a:prstGeom prst="bentConnector3">
              <a:avLst>
                <a:gd name="adj1" fmla="val 498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6" idx="1"/>
              <a:endCxn id="144" idx="2"/>
            </p:cNvCxnSpPr>
            <p:nvPr/>
          </p:nvCxnSpPr>
          <p:spPr>
            <a:xfrm flipV="1">
              <a:off x="5028840" y="2122200"/>
              <a:ext cx="1080" cy="388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1" name=""/>
            <p:cNvCxnSpPr>
              <a:stCxn id="147" idx="3"/>
              <a:endCxn id="145" idx="2"/>
            </p:cNvCxnSpPr>
            <p:nvPr/>
          </p:nvCxnSpPr>
          <p:spPr>
            <a:xfrm>
              <a:off x="5648040" y="3795840"/>
              <a:ext cx="1416600" cy="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2" name=""/>
            <p:cNvCxnSpPr>
              <a:stCxn id="146" idx="3"/>
              <a:endCxn id="147" idx="0"/>
            </p:cNvCxnSpPr>
            <p:nvPr/>
          </p:nvCxnSpPr>
          <p:spPr>
            <a:xfrm rot="5400000">
              <a:off x="4799880" y="3312720"/>
              <a:ext cx="45468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3" name=""/>
            <p:cNvCxnSpPr>
              <a:stCxn id="147" idx="1"/>
              <a:endCxn id="148" idx="3"/>
            </p:cNvCxnSpPr>
            <p:nvPr/>
          </p:nvCxnSpPr>
          <p:spPr>
            <a:xfrm flipV="1" rot="10800000">
              <a:off x="3745800" y="3794760"/>
              <a:ext cx="656280" cy="6840"/>
            </a:xfrm>
            <a:prstGeom prst="bentConnector3">
              <a:avLst>
                <a:gd name="adj1" fmla="val 4983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39" idx="2"/>
              <a:endCxn id="141" idx="0"/>
            </p:cNvCxnSpPr>
            <p:nvPr/>
          </p:nvCxnSpPr>
          <p:spPr>
            <a:xfrm rot="5400000">
              <a:off x="1205640" y="1696680"/>
              <a:ext cx="2055240" cy="1159560"/>
            </a:xfrm>
            <a:prstGeom prst="bentConnector3">
              <a:avLst>
                <a:gd name="adj1" fmla="val 12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5" name=""/>
            <p:cNvSpPr/>
            <p:nvPr/>
          </p:nvSpPr>
          <p:spPr>
            <a:xfrm>
              <a:off x="895320" y="4138560"/>
              <a:ext cx="144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etext com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13160" y="4194000"/>
              <a:ext cx="1524240" cy="446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page Par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"/>
            <p:cNvCxnSpPr>
              <a:stCxn id="155" idx="3"/>
              <a:endCxn id="156" idx="1"/>
            </p:cNvCxnSpPr>
            <p:nvPr/>
          </p:nvCxnSpPr>
          <p:spPr>
            <a:xfrm>
              <a:off x="2336760" y="4412880"/>
              <a:ext cx="1977120" cy="5400"/>
            </a:xfrm>
            <a:prstGeom prst="bentConnector3">
              <a:avLst>
                <a:gd name="adj1" fmla="val 499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39" idx="2"/>
              <a:endCxn id="144" idx="0"/>
            </p:cNvCxnSpPr>
            <p:nvPr/>
          </p:nvCxnSpPr>
          <p:spPr>
            <a:xfrm flipH="1" rot="16200000">
              <a:off x="3651120" y="410760"/>
              <a:ext cx="540720" cy="22168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9" name=""/>
            <p:cNvCxnSpPr>
              <a:stCxn id="143" idx="3"/>
              <a:endCxn id="144" idx="1"/>
            </p:cNvCxnSpPr>
            <p:nvPr/>
          </p:nvCxnSpPr>
          <p:spPr>
            <a:xfrm flipV="1">
              <a:off x="2037960" y="1955520"/>
              <a:ext cx="2229480" cy="1845360"/>
            </a:xfrm>
            <a:prstGeom prst="bentConnector3">
              <a:avLst>
                <a:gd name="adj1" fmla="val 1679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6" idx="3"/>
              <a:endCxn id="145" idx="2"/>
            </p:cNvCxnSpPr>
            <p:nvPr/>
          </p:nvCxnSpPr>
          <p:spPr>
            <a:xfrm flipV="1">
              <a:off x="5837400" y="3798360"/>
              <a:ext cx="1227240" cy="619920"/>
            </a:xfrm>
            <a:prstGeom prst="bentConnector3">
              <a:avLst>
                <a:gd name="adj1" fmla="val 499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62" idx="2"/>
              <a:endCxn id="145" idx="1"/>
            </p:cNvCxnSpPr>
            <p:nvPr/>
          </p:nvCxnSpPr>
          <p:spPr>
            <a:xfrm rot="5400000">
              <a:off x="6941520" y="2796840"/>
              <a:ext cx="123876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3" name=""/>
            <p:cNvCxnSpPr>
              <a:stCxn id="140" idx="2"/>
              <a:endCxn id="162" idx="0"/>
            </p:cNvCxnSpPr>
            <p:nvPr/>
          </p:nvCxnSpPr>
          <p:spPr>
            <a:xfrm flipH="1" rot="16200000">
              <a:off x="6879240" y="1107720"/>
              <a:ext cx="542160" cy="824760"/>
            </a:xfrm>
            <a:prstGeom prst="bentConnector3">
              <a:avLst>
                <a:gd name="adj1" fmla="val 4983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4" name=""/>
            <p:cNvCxnSpPr>
              <a:stCxn id="144" idx="0"/>
              <a:endCxn id="140" idx="2"/>
            </p:cNvCxnSpPr>
            <p:nvPr/>
          </p:nvCxnSpPr>
          <p:spPr>
            <a:xfrm flipH="1" flipV="1" rot="5400000">
              <a:off x="5613480" y="663840"/>
              <a:ext cx="540720" cy="17103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6773760" y="1790640"/>
              <a:ext cx="1578240" cy="389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 GMOD to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he Next Step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286000"/>
            <a:ext cx="4191120" cy="20574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Building the bo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mponents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kibot.pl - bot controll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ikibot.pl -out for output from the wiki tabl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ikibot.pl -in for input into the wiki tabl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kiBot.pm and a ridiculous number of other object class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get_wikirow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reads the db and loads a data structu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translates tags if necessary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output xml-like tagged text to STDOU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ave_wikirow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take xml-like tagged tex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update the wikibox_db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update the wiki via a php script runTableEdit.php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unTableEdit.php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uns parts of the table editor from the shel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Various configuration pages in the wiki in the User namespac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wikibot -ou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$ ./wikibot.pl -out -template GO_table_product  -a JimHu/testadaptor1         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wikirow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row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page_name&gt;Sandbox&lt;/page_name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page_uid&gt;1861&lt;/page_u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row_id&gt;10&lt;/row_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template&gt;GO_table_product&lt;/template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box_uid&gt;73c9eb6b3db48b95c5213e57bdbfb339.1861.1176475687&lt;/box_u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go_id&gt;GO:0000234&lt;/go_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status&gt;required field missing&lt;/statu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aspect&gt;F&lt;/aspect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go_term&gt;phosphoethanolamine N-methyltransferase activity&lt;/go_term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notes&gt;fake GO annotation for testing&lt;/note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evidence&gt;IDA: Inferred from Direct Assay&lt;/evidence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row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more rows…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wikirow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wikibot -in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$ ./wikibot_test.pl|./wikibot.pl -a JimHu/testadaptor1 -u JimHu -i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kibot_test.pl generates some outpu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a regex to munge 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utput piped to wikibot.pl with para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Summary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ableEdit is ready for more test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t just got to its current state yesterd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utput is just yet another kind of text that different clients will have to par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put works with a “standard”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f row_id is present, update, else inse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uggestions for improving the standard would be useful!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pdating the wiki directly via the TableEdit instead of via XM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hould be less prone to conflicts than saving and loading XML later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bably should be rewritten to use Class::DBI at some poi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spite the need for more serious testing, I’m going to try to use this to load up EcoliWiki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Community Annotation with Wikis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kis are potentially very nice for CA but the freetext nature of wiki content limits their usefuln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sible solu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c Mediawiki - extend markup (Users won’t do thi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atural language processing of wiki pages (Hard to implement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Provide a natural way to display key-value pair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39800" y="944640"/>
            <a:ext cx="7612200" cy="4797360"/>
            <a:chOff x="739800" y="944640"/>
            <a:chExt cx="7612200" cy="4797360"/>
          </a:xfrm>
        </p:grpSpPr>
        <p:sp>
          <p:nvSpPr>
            <p:cNvPr id="53" name=""/>
            <p:cNvSpPr/>
            <p:nvPr/>
          </p:nvSpPr>
          <p:spPr>
            <a:xfrm>
              <a:off x="2027880" y="944640"/>
              <a:ext cx="156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unity u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05400" y="9446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r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800" y="3303720"/>
              <a:ext cx="182880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6880" y="3303720"/>
              <a:ext cx="73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ki p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95320" y="352584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7080" y="1789200"/>
              <a:ext cx="1524240" cy="333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al:TableEd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64280" y="3417840"/>
              <a:ext cx="990720" cy="7621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33840" y="2509920"/>
              <a:ext cx="990720" cy="57780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02080" y="3541680"/>
              <a:ext cx="1246320" cy="507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B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66960" y="3568680"/>
              <a:ext cx="979560" cy="46692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awik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" name=""/>
            <p:cNvCxnSpPr>
              <a:stCxn id="62" idx="1"/>
              <a:endCxn id="57" idx="3"/>
            </p:cNvCxnSpPr>
            <p:nvPr/>
          </p:nvCxnSpPr>
          <p:spPr>
            <a:xfrm rot="10800000">
              <a:off x="2037600" y="3799800"/>
              <a:ext cx="729360" cy="2160"/>
            </a:xfrm>
            <a:prstGeom prst="bentConnector3">
              <a:avLst>
                <a:gd name="adj1" fmla="val 498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0" idx="1"/>
              <a:endCxn id="58" idx="2"/>
            </p:cNvCxnSpPr>
            <p:nvPr/>
          </p:nvCxnSpPr>
          <p:spPr>
            <a:xfrm flipV="1">
              <a:off x="5028840" y="2122200"/>
              <a:ext cx="1080" cy="388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5" name=""/>
            <p:cNvCxnSpPr>
              <a:stCxn id="61" idx="3"/>
              <a:endCxn id="59" idx="2"/>
            </p:cNvCxnSpPr>
            <p:nvPr/>
          </p:nvCxnSpPr>
          <p:spPr>
            <a:xfrm>
              <a:off x="5648040" y="3795840"/>
              <a:ext cx="1416600" cy="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6" name=""/>
            <p:cNvCxnSpPr>
              <a:stCxn id="60" idx="3"/>
              <a:endCxn id="61" idx="0"/>
            </p:cNvCxnSpPr>
            <p:nvPr/>
          </p:nvCxnSpPr>
          <p:spPr>
            <a:xfrm rot="5400000">
              <a:off x="4799880" y="3312720"/>
              <a:ext cx="45468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7" name=""/>
            <p:cNvCxnSpPr>
              <a:stCxn id="61" idx="1"/>
              <a:endCxn id="62" idx="3"/>
            </p:cNvCxnSpPr>
            <p:nvPr/>
          </p:nvCxnSpPr>
          <p:spPr>
            <a:xfrm flipV="1" rot="10800000">
              <a:off x="3745800" y="3794760"/>
              <a:ext cx="656280" cy="6840"/>
            </a:xfrm>
            <a:prstGeom prst="bentConnector3">
              <a:avLst>
                <a:gd name="adj1" fmla="val 4983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3" idx="2"/>
              <a:endCxn id="55" idx="0"/>
            </p:cNvCxnSpPr>
            <p:nvPr/>
          </p:nvCxnSpPr>
          <p:spPr>
            <a:xfrm rot="5400000">
              <a:off x="1205640" y="1696680"/>
              <a:ext cx="2055240" cy="1159560"/>
            </a:xfrm>
            <a:prstGeom prst="bentConnector3">
              <a:avLst>
                <a:gd name="adj1" fmla="val 12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" name=""/>
            <p:cNvSpPr/>
            <p:nvPr/>
          </p:nvSpPr>
          <p:spPr>
            <a:xfrm>
              <a:off x="895320" y="4138560"/>
              <a:ext cx="144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etext com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13160" y="4194000"/>
              <a:ext cx="1524240" cy="446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page Par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"/>
            <p:cNvCxnSpPr>
              <a:stCxn id="69" idx="3"/>
              <a:endCxn id="70" idx="1"/>
            </p:cNvCxnSpPr>
            <p:nvPr/>
          </p:nvCxnSpPr>
          <p:spPr>
            <a:xfrm>
              <a:off x="2336760" y="4412880"/>
              <a:ext cx="1977120" cy="5400"/>
            </a:xfrm>
            <a:prstGeom prst="bentConnector3">
              <a:avLst>
                <a:gd name="adj1" fmla="val 499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53" idx="2"/>
              <a:endCxn id="58" idx="0"/>
            </p:cNvCxnSpPr>
            <p:nvPr/>
          </p:nvCxnSpPr>
          <p:spPr>
            <a:xfrm flipH="1" rot="16200000">
              <a:off x="3651120" y="410760"/>
              <a:ext cx="540720" cy="22168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>
              <a:stCxn id="57" idx="3"/>
              <a:endCxn id="58" idx="1"/>
            </p:cNvCxnSpPr>
            <p:nvPr/>
          </p:nvCxnSpPr>
          <p:spPr>
            <a:xfrm flipV="1">
              <a:off x="2037960" y="1955520"/>
              <a:ext cx="2229480" cy="1845360"/>
            </a:xfrm>
            <a:prstGeom prst="bentConnector3">
              <a:avLst>
                <a:gd name="adj1" fmla="val 1679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70" idx="3"/>
              <a:endCxn id="59" idx="2"/>
            </p:cNvCxnSpPr>
            <p:nvPr/>
          </p:nvCxnSpPr>
          <p:spPr>
            <a:xfrm flipV="1">
              <a:off x="5837400" y="3798360"/>
              <a:ext cx="1227240" cy="619920"/>
            </a:xfrm>
            <a:prstGeom prst="bentConnector3">
              <a:avLst>
                <a:gd name="adj1" fmla="val 499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76" idx="2"/>
              <a:endCxn id="59" idx="1"/>
            </p:cNvCxnSpPr>
            <p:nvPr/>
          </p:nvCxnSpPr>
          <p:spPr>
            <a:xfrm rot="5400000">
              <a:off x="6941520" y="2796840"/>
              <a:ext cx="123876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7" name=""/>
            <p:cNvCxnSpPr>
              <a:stCxn id="54" idx="2"/>
              <a:endCxn id="76" idx="0"/>
            </p:cNvCxnSpPr>
            <p:nvPr/>
          </p:nvCxnSpPr>
          <p:spPr>
            <a:xfrm flipH="1" rot="16200000">
              <a:off x="6879240" y="1107720"/>
              <a:ext cx="542160" cy="824760"/>
            </a:xfrm>
            <a:prstGeom prst="bentConnector3">
              <a:avLst>
                <a:gd name="adj1" fmla="val 4983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8" name="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5613480" y="663840"/>
              <a:ext cx="540720" cy="17103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6" name=""/>
            <p:cNvSpPr/>
            <p:nvPr/>
          </p:nvSpPr>
          <p:spPr>
            <a:xfrm>
              <a:off x="6773760" y="1790640"/>
              <a:ext cx="1578240" cy="389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 GMOD to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he Plan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952880"/>
            <a:ext cx="5638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editor (v0.3 prototype 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box_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ableEdit, SpecialTableEdit, and wikibox_db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2027880" y="94464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9800" y="3303720"/>
            <a:ext cx="18288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6880" y="330372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ki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95320" y="352584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box id=n-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box id=n--&gt;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1789200"/>
            <a:ext cx="1524240" cy="333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:Table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33840" y="2509920"/>
            <a:ext cx="990720" cy="57780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kibox_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7" idx="1"/>
            <a:endCxn id="86" idx="2"/>
          </p:cNvCxnSpPr>
          <p:nvPr/>
        </p:nvCxnSpPr>
        <p:spPr>
          <a:xfrm flipV="1">
            <a:off x="5028840" y="2122200"/>
            <a:ext cx="1080" cy="388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2" idx="2"/>
            <a:endCxn id="83" idx="0"/>
          </p:cNvCxnSpPr>
          <p:nvPr/>
        </p:nvCxnSpPr>
        <p:spPr>
          <a:xfrm rot="5400000">
            <a:off x="1205640" y="1696680"/>
            <a:ext cx="2055240" cy="1159560"/>
          </a:xfrm>
          <a:prstGeom prst="bentConnector3">
            <a:avLst>
              <a:gd name="adj1" fmla="val 12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895320" y="4138560"/>
            <a:ext cx="144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section id=n-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text com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section id=n--&gt;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2" idx="2"/>
            <a:endCxn id="86" idx="0"/>
          </p:cNvCxnSpPr>
          <p:nvPr/>
        </p:nvCxnSpPr>
        <p:spPr>
          <a:xfrm flipH="1" rot="16200000">
            <a:off x="3651120" y="410760"/>
            <a:ext cx="540720" cy="22168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" name=""/>
          <p:cNvCxnSpPr>
            <a:stCxn id="85" idx="3"/>
            <a:endCxn id="86" idx="1"/>
          </p:cNvCxnSpPr>
          <p:nvPr/>
        </p:nvCxnSpPr>
        <p:spPr>
          <a:xfrm flipV="1">
            <a:off x="2037960" y="1955520"/>
            <a:ext cx="2229480" cy="1845360"/>
          </a:xfrm>
          <a:prstGeom prst="bentConnector3">
            <a:avLst>
              <a:gd name="adj1" fmla="val 1679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46520" y="3363480"/>
            <a:ext cx="5611680" cy="32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bleEdit - allows placement of new t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pecial:TableEdit - allows forms-based editing of t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kibox_d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box_id, template, page_title, namespace, type, headings, heading_style, box_style, timestamp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ow_id, box_id, owner_uid, row_data, row_style, row_sort_order, timestamp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ol1 || col2 || col3 || …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My db is lighter than Todd’s</a:t>
            </a:r>
            <a:br>
              <a:rPr sz="3600"/>
            </a:b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(but more complex than Ken’s)</a:t>
            </a:r>
            <a:endParaRPr b="0" lang="en-US" sz="2400" spc="-1" strike="noStrike">
              <a:solidFill>
                <a:srgbClr val="8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90720" y="1844640"/>
          <a:ext cx="2057400" cy="30319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emp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age_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age_u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u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Gill Sans"/>
                        </a:rPr>
                        <a:t>hea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heading_sty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sty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imest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6" name=""/>
          <p:cNvCxnSpPr>
            <a:stCxn id="97" idx="3"/>
            <a:endCxn id="98" idx="1"/>
          </p:cNvCxnSpPr>
          <p:nvPr/>
        </p:nvCxnSpPr>
        <p:spPr>
          <a:xfrm>
            <a:off x="3048120" y="1996920"/>
            <a:ext cx="2134080" cy="68184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990720" y="184464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252576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0280" y="39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987800" y="2509920"/>
            <a:ext cx="179640" cy="331560"/>
            <a:chOff x="4987800" y="2509920"/>
            <a:chExt cx="179640" cy="331560"/>
          </a:xfrm>
        </p:grpSpPr>
        <p:sp>
          <p:nvSpPr>
            <p:cNvPr id="101" name=""/>
            <p:cNvSpPr/>
            <p:nvPr/>
          </p:nvSpPr>
          <p:spPr>
            <a:xfrm flipV="1">
              <a:off x="4987800" y="2509920"/>
              <a:ext cx="1796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87800" y="2676600"/>
              <a:ext cx="1796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5181480" y="2220840"/>
          <a:ext cx="2057400" cy="212256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ow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wner_u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Gill Sans"/>
                        </a:rPr>
                        <a:t>row_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ow_sty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ow_sort_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imest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145040" cy="233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3909960" cy="1617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5056200" cy="2276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0" t="0" r="30992" b="0"/>
          <a:stretch/>
        </p:blipFill>
        <p:spPr>
          <a:xfrm>
            <a:off x="4952880" y="914400"/>
            <a:ext cx="35816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emplates with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&lt;newTableEdit&gt;Template:templatename&lt;/newTableEdit&gt;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emplate content can be simple or complex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imple: \n delimited lis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2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2743200"/>
            <a:ext cx="3581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emplates with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ewTableEdit&gt;Template:templatename&lt;/newTableEdit&gt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emplate content can be simple or comple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Intermediate: \n delimited list with extra proper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5146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||uniquename|property|pa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20040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pe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ext: use input type text instead of tes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lect: pulldow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ipe-delimited list of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Lookup: MySQL database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QL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alc: simple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alculation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Lookupcalc: Combines lookup and ca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emplate exampl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24280" y="144756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'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4132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7:32:11Z</dcterms:created>
  <dc:creator>Jim Hu</dc:creator>
  <dc:description/>
  <dc:language>en-US</dc:language>
  <cp:lastModifiedBy>Jim Hu</cp:lastModifiedBy>
  <dcterms:modified xsi:type="dcterms:W3CDTF">2007-05-14T18:06:18Z</dcterms:modified>
  <cp:revision>25</cp:revision>
  <dc:subject/>
  <dc:title>PowerPoint Presentation</dc:title>
</cp:coreProperties>
</file>